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562464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562464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BB39-713E-42A3-BBF9-6F962EA94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5624640" y="6458040"/>
            <a:ext cx="430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F977-D505-49ED-ADB0-F5A5FBF99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CB51-9114-4798-A47C-B4E95C5B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970A-85F3-4BF9-827A-EBB4BBC2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CCF3-078C-4D9C-9B2A-D057DA85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67A4-721C-4587-AEE9-BA434AD9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4209-E479-4BE6-9777-ECDA62A1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5697-D010-4266-8B8E-46CE6A6A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ADCC-8769-4242-92FB-E657C14E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76A5-033B-4F24-9EC1-593781C4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006F-5BA5-44FA-A40A-47158F62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0065-2DF6-451C-86CB-3FD244F5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5CE0-E63F-4A88-83FD-CB2203EA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D38E-D42E-449C-9BE7-97A525B7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B167-7A39-4B2C-ADFB-FD590741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9B28-746C-4BAD-9953-3DE590F6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2895-80DF-43BC-B7CF-17615AB3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8CBB-948A-4113-BFBF-A09B30A1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2E25-863C-4675-A686-750A50F8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2DA18-459F-4A77-A040-976C2F82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1E8CE-ADD6-46DD-8CDB-67D14A65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F6ACC-6059-4141-A47A-19992B87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DC6F7-A02F-414D-83D9-808AF28A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50579-6D01-4842-B4B0-DC349BA4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1FB2-8F75-4371-86C5-EFB2ED4A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D9217-600C-4934-8A18-38A5FC5B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06E4E-1905-4287-B7C1-E35BCE7E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0F49A-EE7C-432F-857F-522FF633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F9FB6-C3A2-4261-BCAE-260F44DF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3642B-EF28-46A3-A48C-8CB01BD6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630D0-BE64-4E64-A7B5-176571A5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FCE40-4592-4EDE-B34F-3ABECEAF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D9A73-2491-461F-9933-809607CF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36B07-778E-4112-BC9D-969720BD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DB35F-E307-4A47-8F5D-20CD6CAE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FB4-379B-4874-9F4A-2B1FC83E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56284-CC3B-4965-83B9-1DB3FF91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83D52-FD31-4A06-B8E6-10C5F075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C6408-C398-4B62-9D03-1C037AEE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C626D-1CEE-44E2-8E2C-147EF152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31483-6EA7-4E94-88D7-B33E51D5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0D9F4-4037-4996-8FCD-A505E360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DB18A-3EF0-4450-8684-DD16E745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7A231-33BC-4DE1-AD52-9F25B25F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DA800-982E-43E4-B108-4B48B31D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2550B-3E70-483C-A105-BAFF2E68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8F02-56F7-408F-82C3-8C59B84E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42E2E-D9F6-4E92-84CB-6E543117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DB78A-5EAF-40D1-B87C-FA4A25F3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9F61F-E076-45FB-AEDF-A811848B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66A25-6465-46D2-8A49-8FE474A1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13C6C-E32C-4F99-9C6E-14A54333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5C28A-4938-4C1C-9950-1574732A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ECEA6-5466-405F-B59B-B4A5B31F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46E36-AB68-46BC-B81B-987B0145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10BDD-BA72-4828-B7ED-E007D981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73FA2-8D4F-478D-B038-C533FFF1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CDCA-9D39-453A-B92B-5CB3F7A5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BE9B0-5202-4CEA-B120-122C4308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0B6A-458B-44BF-B154-C388C9E4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8C8D-6162-43F4-987B-D05C987B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2205-A412-4FB4-9F9C-FA5E4E42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8D32-1F85-4D2E-B26A-38B26D7E2FE2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DF29-0C8B-4274-AC2B-20F92CC94432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7889-2FFD-4AC2-B782-53691ED36DE7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856B-4FCE-4276-8209-A4694EE3D2D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1DCD-94D4-49B3-89C8-A8A44872DE7C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915D-B3DD-417A-BA32-76C3A74DA73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191F-F8DC-402E-B4A7-3DA269DE9D20}" type="datetime"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D2C8-5787-4CEC-9B57-3DD9A35EC4C9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C7D7-D2C2-4B12-9A41-54F718707F57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6233-49D0-4E14-AB2F-B12050023E1A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mailto:maija.placena@inbox.lv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4" descr=""/>
          <p:cNvPicPr/>
          <p:nvPr/>
        </p:nvPicPr>
        <p:blipFill>
          <a:blip r:embed="rId1"/>
          <a:stretch/>
        </p:blipFill>
        <p:spPr>
          <a:xfrm>
            <a:off x="3243240" y="944640"/>
            <a:ext cx="5499000" cy="19810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2734920" y="4581360"/>
            <a:ext cx="6227640" cy="165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Times New Roman"/>
              </a:rPr>
              <a:t>Maija Placēna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Times New Roman"/>
              </a:rPr>
              <a:t>SIA Rostokas Aroma, pārtikas eksperts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Times New Roman"/>
              </a:rPr>
              <a:t>vadošais audito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ffffff"/>
                </a:solidFill>
                <a:latin typeface="Trebuchet MS"/>
              </a:rPr>
              <a:t>T. Mob.26443210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587052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5BBC-8425-43F9-8B8E-1376DA1F9F78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005A-3EFB-4B0F-99A2-9C351F76553C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e 1" descr=""/>
          <p:cNvPicPr/>
          <p:nvPr/>
        </p:nvPicPr>
        <p:blipFill>
          <a:blip r:embed="rId1"/>
          <a:stretch/>
        </p:blipFill>
        <p:spPr>
          <a:xfrm>
            <a:off x="542880" y="324000"/>
            <a:ext cx="7199280" cy="10602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1007640" y="1609200"/>
            <a:ext cx="64803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ustāciju iedalījums pēc forma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ptauja – prezentācija (produkta izstrade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formatīva –iepazīstina un veicina produkta noieta tirgu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gustācija – KS paškontrole (kvalitates stabilitātes parbaude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gustācija – UTN, standarta izpild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ofesionalā degustācija, konkuss  –  speciālisti salīdzina analogos produktu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epirkuma komisijas degustācij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4617-D96E-46C7-A981-D5ABE1D2A744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24A2-1CA4-4D67-B26A-1B77E01298A2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1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454880" cy="9507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971640" y="1341360"/>
            <a:ext cx="679608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likumā paredzēt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5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araugu pieņemšana, glabāšana, sagatavošana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5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gustācijas mērķi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5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gustācijas dalībnieki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5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gustācijas noris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5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gustācijas vertēšanas kritēriji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5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ustācijas protokol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ultātu paziņoša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13EC-28B1-4DAA-ADB8-C038F99C4EA5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F23F-B01B-41BA-890A-1C96BDA2F681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Title 1" descr=""/>
          <p:cNvPicPr/>
          <p:nvPr/>
        </p:nvPicPr>
        <p:blipFill>
          <a:blip r:embed="rId1"/>
          <a:stretch/>
        </p:blipFill>
        <p:spPr>
          <a:xfrm>
            <a:off x="573120" y="189000"/>
            <a:ext cx="7242120" cy="14270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1510920" y="1628640"/>
            <a:ext cx="59770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e produktu pieņemšana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 uz aizdomu pamat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bāšanas laikā – paškontrol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Iepakojuma vai produkta kopums – veselums, vizuālais novertējum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ustēša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Smarža, garša, konsistenc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ustācijas ak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Kvalitates apliecinājum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ekta akt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279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6BF6-D952-49ED-AB48-532351FB37D5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6E9E-C16B-4B8D-8796-CF530617925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122400" y="158760"/>
            <a:ext cx="8180280" cy="963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1368000" y="1233360"/>
            <a:ext cx="632772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ālā novērtēša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Atbilstības apliecinājumu izvērtēšana  </a:t>
            </a:r>
            <a:r>
              <a:rPr b="0" lang="lv-LV" sz="23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	</a:t>
            </a:r>
            <a:r>
              <a:rPr b="0" lang="lv-LV" sz="23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(pavaddokumenti un kvalitātes sertifikāti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Marķējuma informācijas izvērtēšana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	</a:t>
            </a:r>
            <a:r>
              <a:rPr b="0" lang="lv-LV" sz="23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(sastāvdaļas dilstošā secībā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ntitatīvā novērtēša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vēršana, mērīšana </a:t>
            </a: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(verificēti instrumenti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zuālā novērtēšana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krāsa, forma, veselum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oleptiskā (sensorā) novertēša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Garša, smarža, konsistenc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283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74C5-93DE-41B6-BEB3-F5A92972DAAB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87AE-9B81-4B2D-A4F0-DA44C7497C40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Title 1" descr=""/>
          <p:cNvPicPr/>
          <p:nvPr/>
        </p:nvPicPr>
        <p:blipFill>
          <a:blip r:embed="rId1"/>
          <a:stretch/>
        </p:blipFill>
        <p:spPr>
          <a:xfrm>
            <a:off x="792000" y="298440"/>
            <a:ext cx="6907320" cy="14270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1224000" y="1609200"/>
            <a:ext cx="6472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ates novirzes pielaid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pārtikas preces izbrāķēšan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5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ugu izcelsmes produktiem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5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ātri bojājošo produktu defektācij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5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rbības ar dzīvnieku izcelsmes produktiem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kas preces noraidīšana un atgrieša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es apmaiņas iespēj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8F91-EC01-4828-8602-78DADBE0ABC8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1C7E-92D0-4A9A-A029-2F94CE09DBB2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219240" y="255600"/>
            <a:ext cx="8407080" cy="15066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" y="1952640"/>
            <a:ext cx="8305920" cy="4068720"/>
          </a:xfrm>
          <a:prstGeom prst="rect">
            <a:avLst/>
          </a:prstGeom>
          <a:solidFill>
            <a:srgbClr val="d788a3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rebuchet MS"/>
              </a:rPr>
              <a:t>Maija Placēna</a:t>
            </a:r>
            <a:r>
              <a:rPr b="0" lang="lv-LV" sz="2800" spc="-1" strike="noStrike">
                <a:solidFill>
                  <a:srgbClr val="000000"/>
                </a:solidFill>
                <a:latin typeface="Trebuchet MS"/>
              </a:rPr>
              <a:t>– pārtikas tehnologs, eksperts, vadošais audito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lv-LV" sz="23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lv-LV" sz="2300" spc="-1" strike="noStrike">
                <a:solidFill>
                  <a:srgbClr val="6c6c6c"/>
                </a:solidFill>
                <a:latin typeface="Trebuchet MS"/>
              </a:rPr>
              <a:t>mob. 26443210</a:t>
            </a:r>
            <a:r>
              <a:rPr b="0" lang="lv-LV" sz="2300" spc="-1" strike="noStrike">
                <a:solidFill>
                  <a:srgbClr val="874396"/>
                </a:solidFill>
                <a:latin typeface="Trebuchet MS"/>
              </a:rPr>
              <a:t>;   </a:t>
            </a:r>
            <a:r>
              <a:rPr b="0" lang="lv-LV" sz="23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maija.placena@inbox.lv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ffff"/>
                </a:solidFill>
                <a:latin typeface="Garamond"/>
              </a:rPr>
              <a:t>Paldies par uzmanību!!!</a:t>
            </a:r>
            <a:endParaRPr b="0" lang="en-US" sz="40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291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CC3D-3C24-4337-A683-1C115514EB57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F68C-85C6-4B32-868C-56312FDC035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1042920" y="281160"/>
            <a:ext cx="7815240" cy="961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47480" y="1170000"/>
            <a:ext cx="886284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rebuchet MS"/>
              </a:rPr>
              <a:t>Tirgus izpē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rebuchet MS"/>
              </a:rPr>
              <a:t>Vajadzības apzināšana un iepirkuma mērķa noteikšan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 u="sng">
                <a:solidFill>
                  <a:srgbClr val="ff0000"/>
                </a:solidFill>
                <a:uFillTx/>
                <a:latin typeface="Trebuchet MS"/>
              </a:rPr>
              <a:t>Pasūtītāja līmenī:</a:t>
            </a:r>
            <a:br>
              <a:rPr sz="1800"/>
            </a:br>
            <a:r>
              <a:rPr b="0" i="1" lang="lv-LV" sz="1800" spc="-1" strike="noStrike">
                <a:solidFill>
                  <a:srgbClr val="ff0000"/>
                </a:solidFill>
                <a:latin typeface="Trebuchet MS"/>
              </a:rPr>
              <a:t>apjoms </a:t>
            </a:r>
            <a:r>
              <a:rPr b="0" i="1" lang="lv-LV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lv-LV" sz="1800" spc="-1" strike="noStrike">
                <a:solidFill>
                  <a:srgbClr val="ff0000"/>
                </a:solidFill>
                <a:latin typeface="Trebuchet MS"/>
              </a:rPr>
              <a:t> kārtējais patēriņš + nākotnes prognoze + rezerve (risks)</a:t>
            </a:r>
            <a:br>
              <a:rPr sz="1800"/>
            </a:br>
            <a:r>
              <a:rPr b="0" i="1" lang="lv-LV" sz="1800" spc="-1" strike="noStrike">
                <a:solidFill>
                  <a:srgbClr val="ff0000"/>
                </a:solidFill>
                <a:latin typeface="Trebuchet MS"/>
              </a:rPr>
              <a:t>tirgus izpēte </a:t>
            </a:r>
            <a:r>
              <a:rPr b="0" i="1" lang="lv-LV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lv-LV" sz="1800" spc="-1" strike="noStrike">
                <a:solidFill>
                  <a:srgbClr val="ff0000"/>
                </a:solidFill>
                <a:latin typeface="Trebuchet MS"/>
              </a:rPr>
              <a:t> kvalitātes piedāvājums + cenas piedāvājum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rebuchet MS"/>
              </a:rPr>
              <a:t>Paredzamās līgumcenas noteikšana un salīdzināšana ar budžeta iespējām </a:t>
            </a:r>
            <a:br>
              <a:rPr sz="2800"/>
            </a:br>
            <a:r>
              <a:rPr b="0" lang="lv-LV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rebuchet MS"/>
              </a:rPr>
              <a:t>Iepirkuma komisijas izveidošana, nepieciešamo ekspertu piesaistīšan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rebuchet MS"/>
              </a:rPr>
              <a:t>Iepirkuma norises, veicamo uzdevumu un to izpildes termiņu noteikšana </a:t>
            </a:r>
            <a:r>
              <a:rPr b="0" i="1" lang="lv-LV" sz="2400" spc="-1" strike="noStrike">
                <a:solidFill>
                  <a:srgbClr val="000000"/>
                </a:solidFill>
                <a:latin typeface="Trebuchet MS"/>
              </a:rPr>
              <a:t>(laika grafika/iepirkuma plāna  sastādīšana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E310-91E8-4930-ABEE-E46BC497B6B5}" type="slidenum">
              <a:rPr b="0" lang="lv-LV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2" descr=""/>
          <p:cNvPicPr/>
          <p:nvPr/>
        </p:nvPicPr>
        <p:blipFill>
          <a:blip r:embed="rId1"/>
          <a:stretch/>
        </p:blipFill>
        <p:spPr>
          <a:xfrm>
            <a:off x="0" y="219240"/>
            <a:ext cx="8028000" cy="1834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94920" y="5481720"/>
            <a:ext cx="8381880" cy="6127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Garamond"/>
              </a:rPr>
              <a:t>Vai publiskais iepirkums beidzas ar līguma noslēgšanas mirkli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6DBB-78B5-4B7D-9BB6-68EB6D965A2A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FF33-EE08-4C76-AB68-F730C44374E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2"/>
          <a:stretch/>
        </p:blipFill>
        <p:spPr>
          <a:xfrm>
            <a:off x="3024360" y="1773360"/>
            <a:ext cx="360036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Rectangle 2" descr=""/>
          <p:cNvPicPr/>
          <p:nvPr/>
        </p:nvPicPr>
        <p:blipFill>
          <a:blip r:embed="rId1"/>
          <a:stretch/>
        </p:blipFill>
        <p:spPr>
          <a:xfrm>
            <a:off x="2792520" y="798480"/>
            <a:ext cx="5833800" cy="1060560"/>
          </a:xfrm>
          <a:prstGeom prst="rect">
            <a:avLst/>
          </a:prstGeom>
          <a:ln w="0">
            <a:noFill/>
          </a:ln>
        </p:spPr>
      </p:pic>
      <p:sp>
        <p:nvSpPr>
          <p:cNvPr id="240" name="Date Placeholder 2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9F27-9601-49A8-8CCE-3DC76859A9E0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40B3-1336-4DC8-B0EA-3416A85EF8F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719280" y="873000"/>
            <a:ext cx="1692000" cy="1692360"/>
          </a:xfrm>
          <a:prstGeom prst="rect">
            <a:avLst/>
          </a:prstGeom>
          <a:solidFill>
            <a:srgbClr val="fef0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Pieprasīju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Sagatavoš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Garamond"/>
              </a:rPr>
              <a:t>PIL+PA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Garamond"/>
              </a:rPr>
              <a:t>Mkn Nr.1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5111640" y="4653000"/>
            <a:ext cx="2778120" cy="176364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Garamond"/>
              </a:rPr>
              <a:t>Iepirkuma līgu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Garamond"/>
              </a:rPr>
              <a:t>Izpil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Garamond"/>
              </a:rPr>
              <a:t>PAU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Garamond"/>
              </a:rPr>
              <a:t>Mkn Nr.1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295280" y="2349360"/>
            <a:ext cx="6336000" cy="24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lv-LV" sz="2000" spc="-1" strike="noStrike">
                <a:solidFill>
                  <a:srgbClr val="000000"/>
                </a:solidFill>
                <a:latin typeface="Garamond"/>
              </a:rPr>
              <a:t>Iepirkuma procedūra </a:t>
            </a:r>
            <a:r>
              <a:rPr b="1" lang="lv-LV" sz="3200" spc="-1" strike="noStrike">
                <a:solidFill>
                  <a:srgbClr val="000000"/>
                </a:solidFill>
                <a:latin typeface="Garamond"/>
              </a:rPr>
              <a:t>P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de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de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de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de66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1438200" y="2895480"/>
            <a:ext cx="1838520" cy="1685880"/>
          </a:xfrm>
          <a:prstGeom prst="rect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Garamond"/>
              </a:rPr>
              <a:t>Iepirku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Garamond"/>
              </a:rPr>
              <a:t>izsludināša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Garamond"/>
              </a:rPr>
              <a:t>u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Garamond"/>
              </a:rPr>
              <a:t>Piedāvāju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lv-LV" sz="2000" spc="-1" strike="noStrike">
                <a:solidFill>
                  <a:srgbClr val="000000"/>
                </a:solidFill>
                <a:latin typeface="Garamond"/>
              </a:rPr>
              <a:t>gatavo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689280" y="2895480"/>
            <a:ext cx="1422360" cy="1685880"/>
          </a:xfrm>
          <a:prstGeom prst="rect">
            <a:avLst/>
          </a:prstGeom>
          <a:solidFill>
            <a:srgbClr val="fbd3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Piedāvājum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saņemš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un vērtēš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5400720" y="2898720"/>
            <a:ext cx="2050920" cy="1682640"/>
          </a:xfrm>
          <a:prstGeom prst="rect">
            <a:avLst/>
          </a:prstGeom>
          <a:solidFill>
            <a:srgbClr val="eba78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Līgu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slēgšanas tiesīb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piešķirš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lv-LV" sz="1800" spc="-1" strike="noStrike">
                <a:solidFill>
                  <a:srgbClr val="000000"/>
                </a:solidFill>
                <a:latin typeface="Garamond"/>
              </a:rPr>
              <a:t>līguma slēgš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6" descr=""/>
          <p:cNvPicPr/>
          <p:nvPr/>
        </p:nvPicPr>
        <p:blipFill>
          <a:blip r:embed="rId1"/>
          <a:stretch/>
        </p:blipFill>
        <p:spPr>
          <a:xfrm>
            <a:off x="371520" y="6480"/>
            <a:ext cx="8102520" cy="927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1187280" y="764640"/>
            <a:ext cx="6445440" cy="55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gatavošanās Iepirkuma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pirkuma izsludināšan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pirkuma komisijas darb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pirkuma rezultā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īguma slēgšan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īguma izpil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ātes kontrole piegādes laikā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maiņu vadība līguma izpildes laikā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pirkuma </a:t>
            </a:r>
            <a:r>
              <a:rPr b="1" lang="lv-LV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zpildes 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ultātu apkopošana un analīz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0A50-AE05-464E-9A38-534D16811B40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2EFD-5291-489C-BEF3-1065785B84C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2" descr=""/>
          <p:cNvPicPr/>
          <p:nvPr/>
        </p:nvPicPr>
        <p:blipFill>
          <a:blip r:embed="rId1"/>
          <a:stretch/>
        </p:blipFill>
        <p:spPr>
          <a:xfrm>
            <a:off x="731880" y="79200"/>
            <a:ext cx="7594560" cy="10908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1294920" y="1088640"/>
            <a:ext cx="626436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Konkursa rezultātu pierakstu analīz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Līguma slēgšanas vēstur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Piegāžu līguma izpildes analīz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68360" indent="-20556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Pasūtījuma pieņemšana un plānošana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468360" indent="-20556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Transportēšanas nosacījumi pa produktu grupām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468360" indent="-20556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Iepakojuma atbilstība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468360" indent="-20556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Preces kvalitāte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468360" indent="-20556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pmaiņas iespējas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468360" indent="-20556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Komunicēšana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Sūdzības un ierosinājum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Labie darb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7C2D-21A6-4BF1-AC4C-64E259212450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D62A-B24B-4C97-99B2-F5AAD977B0A3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762120" y="225360"/>
            <a:ext cx="6937200" cy="10130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718920" y="1088640"/>
            <a:ext cx="7597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zdruka par apēstajiem produktie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Produktu grupēšana pa piegādātājiem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Produktu grupēšana pa produktu grupām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pējo likumdošanas normatīvo prasību apzināša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ktu prečzinības apraksta </a:t>
            </a:r>
            <a:r>
              <a:rPr b="1" lang="lv-LV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ktualizēša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Tehniskā specifikācij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Kvalitātes specifikācij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stāv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zikāli – ķīmiskie, mikrobioloģiskie rādītāj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oleptiskie rādītāj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ontroles metod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pakojums, marķējums, uzglabāšana, apstrād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AA36-DDCF-4BB5-9668-E3C54A7D1B92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EDA2-8299-4A39-B3B4-A385507CE8F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3762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934560" y="1952640"/>
            <a:ext cx="356076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sūtītāj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dz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valitatīv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Universāl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ažād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Ērt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ēt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47960" y="1915920"/>
            <a:ext cx="381132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iegādātāj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dz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āvīg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valitatīv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pecifisk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Vienveidīg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zdevīg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ārg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Date Placeholder 4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CCD6-8B41-4AB8-8366-CB670B974130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6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7F56-F0AE-42E5-B5A6-61AAC1EDF1B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le 1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966080" cy="950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971280" y="1304640"/>
            <a:ext cx="6724440" cy="51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bjektīva metod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ktu vērtē pielietojuma specifiskajas atbilstība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akstīta un izriet no specifikācija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ms pielietošanas informē pretendentus ar novērtēšanas pamatojumu un nepieciešamību lai izslēgtu rezultātu pārsūdzēšanas iespēja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 salīdzināma ar akreditētu testēšanu, izriet no pasūtītāja tehniskām spējām un pasūtītāja vajadzībā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5160" indent="-22608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(silta ēdiena ilgstoša uzglabāšana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15160" indent="-22608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(saldētu produktu atlaidināšana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267" name="Date Placeholder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D01D-001F-494A-8564-82DCF46E0390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AF35-0E7A-43D3-B42C-CC0450F7C94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</dc:creator>
  <dc:description/>
  <dc:language>en-US</dc:language>
  <cp:lastModifiedBy>Marta Cekule</cp:lastModifiedBy>
  <dcterms:modified xsi:type="dcterms:W3CDTF">2014-03-14T14:17:08Z</dcterms:modified>
  <cp:revision>1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