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462-C624-4404-8ECC-7EC75CF7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8B5-E34E-4E1B-9BB9-30B62D266C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3A5-CFC4-4F47-9589-14C9D7A19F5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BA10-B153-440C-9A82-EC53E287E7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BFF-C898-4546-9B58-065D0728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B4A-ADE8-43C0-A540-58744E6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7BA-E14E-44F8-9A1F-B648F5E9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452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452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5B4-FEE7-4E73-A771-C6A0F293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6E6E-0F5D-4A7C-A9D4-1BF8FE81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0D6-F47C-4E01-BFCE-E7B9B092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37C-B7A9-483C-9BE0-6328725C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3183-9B36-4BF5-AD37-6F62B8AF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ABAF-1D89-4D3A-80D0-8A749B95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3709-D062-4383-B5B1-36BFE4E4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238C-012A-442A-B2AA-50BA7E6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46B-B555-452D-820F-9E44F0B0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FE4D-5790-4F83-A7BF-33B186D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D4E-8A76-4EF0-BA88-7FFA01C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4A28-69A2-45B4-A2C2-607C9B5B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412-7E1C-42FC-A41F-F49E728F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2208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4520" y="170028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2208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4520" y="3994920"/>
            <a:ext cx="264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283C-3641-40EF-BC8D-CA416DAC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8C2-A1AB-41E6-8AE0-67CC8FE5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EF5-5835-407A-B224-EC756B8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04C-F02A-4BAC-8273-C0E4A04E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280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73B-8DDB-4F59-8479-F97F9936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5EC-7975-43EC-A15F-1CE1AE2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6680" y="399492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C00-9E4F-44C3-A79C-25B3BEC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680" y="1700280"/>
            <a:ext cx="40158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9492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F7A-9281-4F24-91C5-884C999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UB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36000" y="115920"/>
            <a:ext cx="170496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9275-EF8F-4A89-91AB-C50084C3FAC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IUB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36000" y="115920"/>
            <a:ext cx="1704960" cy="5335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250920" y="3141720"/>
            <a:ext cx="8610480" cy="201600"/>
            <a:chOff x="250920" y="3141720"/>
            <a:chExt cx="8610480" cy="201600"/>
          </a:xfrm>
        </p:grpSpPr>
        <p:sp>
          <p:nvSpPr>
            <p:cNvPr id="48" name="Rectangle 8"/>
            <p:cNvSpPr/>
            <p:nvPr/>
          </p:nvSpPr>
          <p:spPr>
            <a:xfrm>
              <a:off x="250920" y="3141720"/>
              <a:ext cx="2870280" cy="201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3121200" y="314172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5991480" y="3141720"/>
              <a:ext cx="2869920" cy="201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spcBef>
                <a:spcPts val="601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4344-CBFC-4477-B4B1-0617A9BFDF4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160" y="1442520"/>
            <a:ext cx="8280360" cy="355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AKTUALITĀTES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PUBLISKO IEPIRKUMU JOMĀ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IESNIEGUMI PAR </a:t>
            </a: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PĀRTIKAS IEPIRKUMIEM</a:t>
            </a:r>
            <a:br>
              <a:rPr sz="3600"/>
            </a:br>
            <a:br>
              <a:rPr sz="3600"/>
            </a:br>
            <a:r>
              <a:rPr b="1" i="1" lang="lv-LV" sz="3600" spc="-1" strike="noStrike">
                <a:solidFill>
                  <a:srgbClr val="003399"/>
                </a:solidFill>
                <a:latin typeface="Arial"/>
              </a:rPr>
              <a:t>2014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0960" y="464148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epirkumu uzraudzības biro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Agnese Irm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7CD-ACAA-47C7-8513-3190C956D72B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57140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80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Pasūtītājs ir 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tiesīgs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neizslēgt kandidātu vai pretendentu 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iepriekš noslēgtā līguma neizpildes dēļ, tā vietā paredzot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papildu saistību izpildes nodrošinājumu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 (piemēram, bankas garantija vai apdrošināšana par noteiktu naudas summu) vai 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tādus noteikumus, kas kandidātam vai pretendentam padara ekonomiski neizdevīgu iepirkuma līguma vai vispārīgās vienošanās būtisku noteikumu neievērošanu</a:t>
            </a:r>
            <a:r>
              <a:rPr b="0" lang="lv-LV" sz="2300" spc="-1" strike="noStrike">
                <a:solidFill>
                  <a:srgbClr val="000000"/>
                </a:solidFill>
                <a:latin typeface="Arial"/>
              </a:rPr>
              <a:t> (piemēram, paredzētā avansa maksājuma samazināšana, tā samaksas atlikšana vai atcelšana).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39.</a:t>
            </a:r>
            <a:r>
              <a:rPr b="0" lang="lv-LV" sz="23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 panta otrā daļa</a:t>
            </a:r>
            <a:r>
              <a:rPr b="1" lang="lv-LV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044-FAA5-42CA-BF43-A55F64D5356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28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sūtītājs, pieņemot lēmumu par kandidāta vai pretendenta izslēgšanu no turpmākās dalības iepirkuma procedūrā iepriekš noslēgtā līguma neizpildes dēļ, ņem vērā, cik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būtisks ir pārkāpum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kas pieļauts tā iepirkuma līguma vai vispārīgās vienošanās izpildē, no kā pasūtītājs vienpusēji atkāpies, kā arī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slēdzamā iepirkuma līguma vai vispārīgās vienošanās neizpildes ris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anta ceturtā daļ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5C8-D97C-47E2-8ABF-37D53B27145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20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ūtītājs ir tiesīgs piemērot PIL 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redzēto kandidātu un pretendentu izslēgšanas nosacījumu, kā arī 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nta otrajā daļā minēto papildu saistību izpildes nodrošinājumu un noteikumus iepriekš noslēgtā līguma neizpildes dēļ, 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</a:rPr>
              <a:t>tikai tad, ja tas šādas tiesības ir paredzējis paziņojumā par līgumu vai iepirkuma procedūras doku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FB2C-CFE4-4704-9D9D-0952537ED129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200" y="158076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 Pārejas noteikumu 47.punkts: 2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ļā paredzētais izslēgšanas noteikums piemērojams,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ja pasūtītājs vienpusēji atkāpies no iepirkuma līguma vai vispārīgās vienošanās pēc 31.07.2013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CE1-A936-45B7-8DB6-18045A17444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5840" y="1609560"/>
            <a:ext cx="77756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PIL 39.</a:t>
            </a:r>
            <a:r>
              <a:rPr b="1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 pantā paredzētais izslēgšanas noteikums un papildu saistību nodrošinājums vai papildu noteikumi līgumā netiek piemēroti, 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o dienas, kad pasūtītājs vienpusēji atkāpies no iepriekš noslēgtā iepirkuma līguma vai vispārīgās vienošanās, līdz pieteikuma vai piedāvājuma iesniegšanas dienai </a:t>
            </a:r>
            <a:r>
              <a:rPr b="1" lang="lv-LV" sz="2600" spc="-1" strike="noStrike">
                <a:solidFill>
                  <a:srgbClr val="000000"/>
                </a:solidFill>
                <a:latin typeface="Arial"/>
              </a:rPr>
              <a:t>ir pagājuši 12 mēneši publiska piegādes vai pakalpojumu līguma gadījumā un trīs gadi publiska būvdarbu līguma gadījumā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. (39.</a:t>
            </a:r>
            <a:r>
              <a:rPr b="0" lang="lv-LV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nta trešā daļ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4800" y="281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3399"/>
                </a:solidFill>
                <a:latin typeface="Arial"/>
              </a:rPr>
              <a:t>IESNIEGUMU IZSKATĪŠANAS KOMISIJAS PRAKSE</a:t>
            </a:r>
            <a:br>
              <a:rPr sz="4000"/>
            </a:br>
            <a:r>
              <a:rPr b="1" lang="lv-LV" sz="4000" spc="-1" strike="noStrike">
                <a:solidFill>
                  <a:srgbClr val="003399"/>
                </a:solidFill>
                <a:latin typeface="Arial"/>
              </a:rPr>
              <a:t>PĀRTIKAS IEPIRKUMO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F71B-91DA-48E6-AA7D-EF35326B8C3B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a priekšmeta daļā «baltmaize, rupjmaize» piedāvājumus ar vienādu viszemāko cenu (15410,00 Ls) iesnieguši 2 pret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a komisija pieņēmusi lēmumu slēgt līgumu ar to, kurš no abiem pirmais iesniedzis piedāvāju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8DA1-8307-4E08-BB7D-F0E86DDED80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esniegumu izskatīšanas komisija (IIK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Līdzvērtīgu piedāvājumu gadījumā nav tiesību izvēlēties kā kritēriju piedāvājumu iesniegšanas la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Jāņem vērā PIL 46.panta ceturtā daļa (ja iespējam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6F7C-E2D5-4F26-B2B8-BE0DE56316A1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i ar vienādām cenā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iepirkuma dokumentos rīcība nav paredzēta, ņem vērā priekšrocības attiecībā uz piedāvājumu kvalitāti, piedāvātajiem līguma izpildes nosacījumiem, kas norāda uz iespēju saņemt izdevīgāku piedāvāju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E657-552C-43D9-A160-89AEBFA51F5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 45.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(1) Ja pasūtītājs konstatē, ka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tbilstoši šā likuma 39.</a:t>
            </a:r>
            <a:r>
              <a:rPr b="1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, 40., 41., 42., 43. un 44.panta noteikumiem iesniegtajos dokumentos ietvertā informācija ir neskaidra vai nepilnīg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tas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ieprasa,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lai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iegādātājs vai kompetenta institūcija izskaidro vai papildina šajos dokumentos ietverto informāciju.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9E2-FFE3-49CB-98A2-C9D3455623A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BB9B-51F0-41F6-92BE-1E5826783A0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Līgumcenu sliekšņ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Mazo” iepirkumu (Publisko iepirkumu likuma 8.</a:t>
            </a:r>
            <a:r>
              <a:rPr b="0" lang="lv-LV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 pants) līgumcenu sliekšņ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piegādēm un pakalpojumiem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4000 euro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līdz </a:t>
            </a: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42 000 e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000" spc="-1" strike="noStrike" u="sng">
                <a:solidFill>
                  <a:srgbClr val="000000"/>
                </a:solidFill>
                <a:uFillTx/>
                <a:latin typeface="Arial"/>
              </a:rPr>
              <a:t>No 42 000 euro – 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epirkuma procedūr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L 45.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(3) Piedāvājumu vērtēšanas gaitā pasūtītājs ir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tiesīgs pieprasīt, lai tiek izskaidrota tehniskajā un finanšu piedāvājumā iekļautā informācij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kā arī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iesniegti piedāvāto preču paraugi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, ja tie nepieciešami preču atbilstības novērtēšanai un pretendents ar tam pieejamiem dokumentiem nevar pasūtītājam pierādīt preču atbilst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761-810C-4B39-A612-15AF05201CC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hniskā specifikācija: «Makaroni a/l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Italpasta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ekvivalenti», preci nepieciešams saņemt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nebojātā  rūpnīcas iepakojum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piedāvā AS «Dobeles Dzirnavnieks» makaronus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celofāna iepakojum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iesniedzēju noraidījis, jo noskaidrojis, ka ražotājs produktus piedāvā kartona kārbā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B750-46DF-4B35-B17B-5BD334E700C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hniskā specifikācija: «Majonēze Brokastu», stikla burkās fasējumā  no 0,45 līdz 0,48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piedāvā ražotāja «Spilva» majonēzi 500 g fasējum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piedāvājumu noraidījis, jo «Spilva» Provansas majonēzi fasē 480 ml burkās un 10 l spaiņ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348F-99A0-463A-B9FA-BA44F285E44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6880" y="154080"/>
            <a:ext cx="8280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am bija jālūdz iesniedzējam skaidrojums un pierādījumi par piedāvājuma atbilstību, piemēram ražotāja apliecinājums vai preču parau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A919-B3AB-4D91-B70C-B9F361B2FFD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8160" y="13032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35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noraidījis pretendentu, jo tas piedāvājumā nav norādījis minerālūdens ražotāju, nav iekļāvis norādi par augu eļļas un tauku atbilstību MK noteikumiem Nr.172 un nav norādījis šo preču un ražotāju nosauku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DC74-A291-48F1-9F91-B006B17FF9A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35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 : Nav konstatējams, ka iepirkuma dokumentos būtu paredzēti  konkrēti nosacījumi pretendentiem attiecībā uz tehniskajā piedāvājumā iekļaujamās informācijas saturu, piemēram, kāda informācija jānorāda ailē «apraksts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ūtītājs varēja piemērot PIL 45.panta trešo daļ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nformācijas par pretendenta tehniskajā piedāvājumā iekļauto preču un ražotāju nosaukumu pieprasīšana un saņemšana nav uzskatāma par piedāvājuma papildināšan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302B-5712-4CA6-8506-BFB7B9BDFA8F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r 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noraidīts, jo pozīcijā «margarīns ar tauku saturu 40 %, sviestmaižu» piedāvājis margarīnu, augu tauku pastu, tauku saturs ne mazāk kā 40 %,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A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4BB-585B-4781-A141-894D67942A9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ar papildu informācijas pieprasīšanu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3400" y="1547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 pārbaudījis infromāciju interneta vietnē www.btn.lv, konstatējot, ka piedāvātais margarīns tiek piedāvāts tikai ar tauku saturu 25 % (par margarīnu ir uzskatāms tikai produkts ar tauku saturu 39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Ja pasūtītājam bija šaubas, tam bija jāvēršas pie iesniedzēja vai preču ražotā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F467-E968-497C-AD62-65E0279B4AE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epareizas procedūras izvēl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45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ūtītājs rīkojis iepirkumu Publisko iepirkumu likuma 8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panta kārtīb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ās iepirkuma daļās uzvarējušo pretendentu piedāvāto līgumcenu summa ir 27 794.64 bez PV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Līgumcenu summa pārsniedz PIL 8.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nta piemērošanas slieksni (līdz 20 000 latu). Iepirkums jāpārtrau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723D-A43B-4518-9C43-B36F7399BE0B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pirkums dalīts daļās pa pārtikas grupā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ļa un tās izstrādāju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ugļi un dārzeņ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na produk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aizes izstrādāju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žādi pārtikas produ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3A0B-BC3A-4E07-B3DF-2F024347807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6D83-BA76-45CC-9C7F-C9E585D04593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7748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617840"/>
            <a:ext cx="808524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baude par to, vai kandidāts vai pretendents nav izslēdzams PIL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1) 1., 2.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n 3.punktā paredzēto noziedzīgo nodarījumu un pārkāpumu dēļ, par kuriem tas sodīts Latvijā, un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(1) 4. un 5.punktā noteikto faktu dēļ, veicama,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izmantojot Ministru kabineta noteikto informācijas sistē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nformācija iegūstama VRAA uzturētajā Elektronisko iepirkumu sistēm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Izslēgšanas noteikumu pārbaudi veic minētajā sistēmā arī «mazajos iepirkumos» (PIL 8.</a:t>
            </a:r>
            <a:r>
              <a:rPr b="1" i="1" lang="lv-LV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lv-LV" sz="2400" spc="-1" strike="noStrike">
                <a:solidFill>
                  <a:srgbClr val="000000"/>
                </a:solidFill>
                <a:latin typeface="Arial"/>
              </a:rPr>
              <a:t> p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niedzējs apstrīd to, ka grupā «Dažādi pārtikas produkti» iekļautas pozīcijas: sviests, kausēts siers, siers «Krievijas», biezpiena sieriņi, krabīši, saldētas zi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9EF4-0732-4277-9D33-0B5302475964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Dalīšana pārtikas grupā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Lēmums Nr.4-1.2/13-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K: Kausēts siers, biezpiena sieriņi, sviests nav daudzu piena produktu ražotāju klāstā, nav pamatoti pievienot piena produktu grupai, savukārt siers jāiekļauj piena produktu grup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ldētas zivis, krabīšus nav pamata izdalīt atsevišķā grupā nelielo apjomu dē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68C-D1AD-4342-85DF-AF3C0FBC38A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u vērtēšanas kritērij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Lēmums Nr.4-1.2/13-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Ēdināšanas pakalpojumu iepir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sniedzējs apstrīd kritēriju «Pretendenta esošā personāla kvalifikācijas atbilstība MK noteikumiem Nr.409». Maksimālais punktu skaits pretendentam, kura darbinieku kvalifikācija/izglītība ir visaugstākā, izmantojot salīdzināšanas meto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: Pasūtītājam nav izpratnes, kāda personāla kvalifikāciju vērtēs (grāmatvedes, tehnisko darbinieku, pakalpojuma sniegšanā iesaistīto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E10-3900-451B-928E-EB9F3E886D79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Piedāvājumu vērtēšanas kritērij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Lēmums Nr.4-1.2/13-2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Ēdināšanas pakalpojumu iepir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sniedzējs apstrīd kritēriju – ēdiena gatavošanai paredzēto produktu vai produktu grupu piegāde videi draudzīgā veidā (ne vairāk kā 50 km attālumā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IK: Kritērijs pamatots. Mērķis – samazināt vides piesārņojumu. Tomēr jāparedz detalizētāks vērtēšanas apraksts (kā pārliecināsies, ka produktu piegāde no ražošanas vai izcelsmes vietas, ne tikai no pretendenta, notikusi attāluma robežā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8E6-611A-487A-8311-5E2159ADC97D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epirkuma priekšmets – pārtikas produktu piegā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Arial"/>
              </a:rPr>
              <a:t>Iesniedzējs apstrīd uzvarētāja cenas pamatotību, jo uzvarētājs iepērk produktus no tiem pašiem vairumtirgotājiem, turklāt uzvarētājam ir tālāks piegādes ceļ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F8FF-EB1D-489B-B2A5-AEE17FFC2987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Uzvarētāja piedāvātā cena vairākās pozīcijās ir ļoti zema salīdzinājumā ar iesniedzēja piedāvātajām, turklāt iesniedzēja piedāvājums ir ar otro zemāko cenu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3500" spc="-1" strike="noStrike">
                <a:solidFill>
                  <a:srgbClr val="000000"/>
                </a:solidFill>
                <a:latin typeface="Arial"/>
                <a:ea typeface="Arial"/>
              </a:rPr>
              <a:t>Piemēram, 1 kg kausēts siera cena iesniedzējam  3,03 Ls, uzvarētājam – 0,62 L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3CF-AB27-4C0F-9D60-94DD9A4C680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3399"/>
                </a:solidFill>
                <a:latin typeface="Arial"/>
                <a:ea typeface="Arial"/>
              </a:rPr>
              <a:t>Nepamatoti lēts piedāvājum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IK 11.06.2012. lēmums Nr.4-1.2/12-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IK: Pasūtītājam ir jābūt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ārliecinātam, ka piedāvātā cena atbilst tirgus situācijai un nav nepamatoti lēt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. Ja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na atšķiras vairākas reize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, jāpārliecinās, ka konkrēto produktu par  šādu cenu ir iespējams piegādāt, pieprasot pierādījumus, piemēram, pretendentu noslēgtos līgumus ar attiecīgiem preču piegādātājiem vai ražotājiem, to apliecinājumus par piedāvājumā norādīto cenu iespējamī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Pasūtītājs nav veicis piedāvāto cenu analīzi un nav pārliecinājies par uzvarētāja piedāvājuma atbilstību, lai gan konkrētajā gadījumā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jadzēja rasties šaubām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278C-BDC1-4385-9711-FDF9328C888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3399"/>
                </a:solidFill>
                <a:latin typeface="Arial"/>
              </a:rPr>
              <a:t>Paldies par uzmanību!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818-3654-4852-B4D2-4AB7CB27FFD5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0800" y="184752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MK 17.12.2013. noteikumi Nr.1516 „Publisko iepirkumu elektronisko izziņu noteikumi” nos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) informācijas sistēmu, kurā veicama pārbaude, šīs sistēmas uzturēšanas un izmantošanas kār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) pārbaudāmās informācijas apstrādes mērķi un apjom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) kārtību, kādā informācijas sistēma saņem un apstrādā informāciju no iestāžu (VID, UR) uzturētajām informācijas sistēm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Ministru kabineta noteiktajā kārtībā iegūst informāci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) par 39.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ta pirmās daļas 1., 2. un 3.punktā minētajiem pārkāpumiem un noziedzīgajiem nodarījumiem — no Iekšlietu ministrijas Informācijas centra (Sodu reģistr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) par šā panta pirmās daļas 4.punktā minētajiem faktiem — no Uzņēmumu reģist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4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) par šā panta pirmās daļas 5.punktā minēto faktu — no Valsts ieņēmumu dienesta un Latvijas pašvaldīb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B14-605D-4ADE-A5DF-704194FB9ED0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985A-CAEA-4FFF-A301-97F72D87F4D3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0800" y="1847520"/>
            <a:ext cx="77756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MK 17.12.2013. noteikumu Nr.1516 „Publisko iepirkumu elektronisko izziņu noteikumi” 14.punk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Ja šo noteikumu 12.punktā minētajā termiņā e-izziņa reģistra nepieejamības dēļ nav saņemta, e-izziņu pieprasa atkārtoti no e-izziņu sistēmas vai nepieciešamo informāciju pieprasa iesniegt attiecīgajam reģistra pārzinim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574F-CD5D-4B20-9C11-0B8F17524A7C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1.2014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7920" y="1655640"/>
            <a:ext cx="777564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75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PIL 39.</a:t>
            </a:r>
            <a:r>
              <a:rPr b="0" i="1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panta (10) Lai pārbaudītu, vai </a:t>
            </a:r>
            <a:r>
              <a:rPr b="1" i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ārvalstī reģistrēts vai pastāvīgi dzīvojošs kandidāts vai pretendents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nav izslēdzams no dalības iepirkuma procedūrā saskaņā ar šā panta pirmo daļu, pasūtītājs, izņemot 39.</a:t>
            </a:r>
            <a:r>
              <a:rPr b="0" i="1" lang="lv-LV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panta vienpadsmitajā daļā minēto gadījumu, pieprasa, lai kandidāts vai pretendents iesniedz </a:t>
            </a:r>
            <a:r>
              <a:rPr b="1" i="1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attiecīgās ārvalsts kompetentās institūcijas izziņu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kas apliecina, ka uz kandidātu vai pretendentu neattiecas šā panta pirmajā daļā noteiktie gadīju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BA4-0076-4E53-9247-19991358A57E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slēgšanas noteikumu pārbaude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 no 01.01.2014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1580760"/>
            <a:ext cx="79693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nstatējot nodokļu parād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 algn="just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ormē kandidātu vai pretendentu par 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 algn="just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saka termiņu — 10 darbdienas pēc informācijas izsniegšanas vai nosūtīšanas dienas —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konstatēto parādu nomaksai un parādu nomaksas apliecinājuma iesniegšan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rādu neesamību apliecina ar attiecīgās personas vai tās pārstāvja apliecinātu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zdruku no VID EDS vai pašvaldības izziņu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Ja minētais apliecinājums noteiktajā termiņā nav iesniegts, kandidātu vai pretendentu izslēd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EB48-E3A0-44AA-8ED8-5DAD96E902E2}" type="slidenum">
              <a:rPr b="0" lang="lv-LV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3080" y="118800"/>
            <a:ext cx="828036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Izmaiņas izslēgšanas noteikumos </a:t>
            </a:r>
            <a:br>
              <a:rPr sz="3200"/>
            </a:br>
            <a:r>
              <a:rPr b="1" lang="lv-LV" sz="3200" spc="-1" strike="noStrike">
                <a:solidFill>
                  <a:srgbClr val="003399"/>
                </a:solidFill>
                <a:latin typeface="Arial"/>
              </a:rPr>
              <a:t>no 01.08.2013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4520" y="1523880"/>
            <a:ext cx="777528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Pasūtītājs ir </a:t>
            </a: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tiesīgs izslēgt kandidātu vai pretendentu no turpmākās dalības iepirkuma procedūrā</a:t>
            </a: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, ja kandidāts vai pretend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nav pildījis ar šo pasūtītāju noslēgtu iepirkuma līgumu vai vispārīgo vienošan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tādēļ pasūtītājs ir izmantojis iepirkuma līgumā vai vispārīgās vienošanās noteikumos paredzētās tiesības vienpusēji atkāpties no iepirkuma līguma vai vispārīgās vienošanās. (</a:t>
            </a:r>
            <a:r>
              <a:rPr b="0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39.</a:t>
            </a:r>
            <a:r>
              <a:rPr b="0" lang="lv-LV" sz="27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 panta pirmā daļa</a:t>
            </a:r>
            <a:r>
              <a:rPr b="1" lang="lv-LV" sz="27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26:47Z</dcterms:created>
  <dc:creator>oskars.putans</dc:creator>
  <dc:description/>
  <dc:language>en-US</dc:language>
  <cp:lastModifiedBy>Agnese Irmeja</cp:lastModifiedBy>
  <dcterms:modified xsi:type="dcterms:W3CDTF">2014-03-13T09:56:59Z</dcterms:modified>
  <cp:revision>147</cp:revision>
  <dc:subject/>
  <dc:title>Grozījumi  PUBLISKO IEPIRKUMU LIKUMĀ</dc:title>
</cp:coreProperties>
</file>